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A15-74AD-45CA-8489-EE39741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672-6E5A-47FC-B4C2-1F9ECC8A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605-48D2-43A4-95F2-53195322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546-7A50-4C9B-A744-42DFC82F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D3FE-0358-4919-A55A-03C79BBE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A11E-242A-418A-8260-18195E28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26A1-C40C-438A-B366-E3666EB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F70B-394A-408D-ADF5-65699F1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F8CF-F550-46D8-824F-FFDD1C2A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7957-F7EA-424E-AA62-6CA21FB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A2C7-215A-4C60-BC2F-42F228D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6B4-E6D9-43F2-90FA-49BD9CA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295B-8BB5-4B45-B043-AE3DB4F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CA3-D91C-4084-A4A7-BCBD9DA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4B63-335E-44B8-80AB-A909125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E6D9-E21E-4529-B7B5-6BFB9319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BEEB-BEE8-4480-9CFD-788AF89F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5D3A-9D3C-4CBA-8267-D0799337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CBC7-2296-489C-A725-52EF981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9087-E969-4E28-82CB-7107E4FC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97A8-5DF8-4C75-AEC5-F0B7EC4E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16DC-3810-4846-9DC7-1C6B1BC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0EE-4793-4873-8E2B-5BF1484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7A8A-006E-428C-8A32-8E9C5A29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FDEC-AB40-4469-A1E6-D6C065A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F8E8-89AC-4768-B3FE-1D9CBC0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4754-05B4-47C6-AEEC-FA560DE1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5BDE-7EA5-4D68-A49A-ECCF5002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5284-E4A0-4E34-9E20-8496F92C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91CA-DCFF-4EDC-BD8A-9B7FD5B0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B644-EC9C-4D0D-9B15-2C0F4702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D53A-CAB9-4DB1-A36E-52763BDE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85C8A-C793-490E-BEAE-0115B4A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6EA-7EAA-4184-8F9A-DA925A18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D2F75-FD91-4EA5-8BA1-24871FB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E4969-B3BF-408F-863F-A67DFB5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09EC-FED7-4AEE-A491-DD6450E4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896E-C0FF-41B1-B47A-8F1361A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6704-28A6-45EB-A8CE-91D92B3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5C15-7D72-4708-9AB8-16D153E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7B35-1CDD-417C-9336-9EFBF116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C4C2-E558-4E55-A39E-89E2BE3B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0AA0-8D2A-4391-92E5-8760A1A8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9F8-DF5D-4B83-9D9E-4BA90C8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B7E-C319-4062-B2EB-334CFB34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62F-5B6E-4F9D-AC53-726555A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2B8-AF00-4646-BD5E-C6A0E62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2F3-9936-4707-A6A5-644C2D74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CC6F2-089D-4130-B4F4-C90C313BD0FA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EF61B-C51D-4843-805A-BCA0F370625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71CB6-5FF8-4B2E-9F2F-A18D74A43FF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2B8F1-0F48-4D90-AE64-2CECA8E6300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4870A-7829-440C-A3B7-B8804CF6A3B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81CE5-B126-4ADC-BC5E-4BBD0BE2F5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4EB38-6E69-4D99-B38F-654DFCC8AEA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BD845-291E-4101-97CE-9D514E5442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dustrial Revolu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ppers &amp; Pony Ri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pper 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crificed cargo space for spe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ported small amount of goods in short amount of tim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ded away after steamboats were made bet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ny Exp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ablished to carry mail from Missouri to California (10 day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laced by telegrap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626240" y="1673280"/>
            <a:ext cx="1414440" cy="1136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056360" y="5038560"/>
            <a:ext cx="1139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ransportation Revolu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re of the east to tap the w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als &amp; railroa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sissippi had less traff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ch region specialized in a specific type of econom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uth raised co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st grew grain &amp; livestoc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st made machines &amp; textil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goods transported using railroad; railroad linked Amer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rket Revolu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formed subsistence economy to nation of industry &amp; comme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 became a place of refuge from wor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reased prosperity to Americ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dened gap between rich &amp; po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t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much opportunity for social mobil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rvels in Manufactur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an in textile indust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 American”, “Wear America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Engl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changeable part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ass produc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214720" y="3855960"/>
            <a:ext cx="41637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ers and Wage Sla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urs long, wages 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ildr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tory workers forbidden to form labor unions to raise w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van Buren established 10-hour work 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ik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onwealth v. Hunt- Supreme Court rules that labor unions are not illeg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men and the Econom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rm women &amp; girls spun yarn, weaved cloth, made candles, butter, cheese &amp; soa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tory Gir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orked 6 days a wee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2-13 hour day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owell, Massachuset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textile mill, showplace fac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men forbidden to join un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978280" y="5292720"/>
            <a:ext cx="23446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lt of Domesticity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working women were sing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ult of Domesticit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lorified the customary functions of a homemak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me as the woman’s proper sphe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pper cla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milies became smaller &amp; child-cente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 flipH="1">
            <a:off x="6768720" y="3062160"/>
            <a:ext cx="23749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olution in the Field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ns-Allegheny region became nation's breadbask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quor and hogs became early western farmer's staple market ite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John Deer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roduced a steel plow in 1837 which broke through the thick soil of the W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482920" y="4175280"/>
            <a:ext cx="41288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ghways and Steambo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olution in transport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caster Turnpi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hard-surfaced highway that ran from Philadelphia to Lancaster; had to pay toll to use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ational/Cumberland Roa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tretched from western Maryland to Illinois, completed in 185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steamboat: Clermo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5757840" y="4540320"/>
            <a:ext cx="33894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rie Canal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s Great Lakes w/ Hudson Ri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York dug canal, cut off from federal a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nton’s Big Ditch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or DeWitt Clinton of New Yo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wered shipping pr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reased passenger transit tim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887560" y="4946760"/>
            <a:ext cx="31402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Iron Hors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ilr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appeared in US in 182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ed oppos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fety fla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ok away money from Erie Canal inves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 being bound together by railroa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3462480" y="4849920"/>
            <a:ext cx="238284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21:36:26Z</dcterms:created>
  <dc:creator>Emily Johnson</dc:creator>
  <dc:description/>
  <dc:language>en-US</dc:language>
  <cp:lastModifiedBy>emily.johnson</cp:lastModifiedBy>
  <dcterms:modified xsi:type="dcterms:W3CDTF">2012-11-12T15:31:35Z</dcterms:modified>
  <cp:revision>4</cp:revision>
  <dc:subject/>
  <dc:title>Chapter 14, Part 2 </dc:title>
</cp:coreProperties>
</file>